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0278-3E4E-488A-A1DF-6EEA1198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5CFE-C90D-47D3-AA90-676DB2FC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2F47-ACD9-4313-81D8-194A231C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DEB5-353A-46C8-8B4C-7A5AAA89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FE81-87F3-49B0-BCA8-20F55CDC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BC7-C7F7-43CF-AD9B-B12DA20B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96FB-CFF6-48CC-9F3F-997CF4C8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B335-2362-413D-829C-7EC30B85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1C54-5823-4598-B66A-80938F0B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3BB2-D22E-480A-8302-94B568EB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85B-93DD-4251-92FD-E23B3E75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2E9A-9437-4B5C-AD87-4D48B2A6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6D67-7A4F-4B1D-8C68-C7D1369974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7:46:36Z</dcterms:created>
  <dc:creator>somebody</dc:creator>
  <dc:description/>
  <dc:language>en-US</dc:language>
  <cp:lastModifiedBy>somebody</cp:lastModifiedBy>
  <dcterms:modified xsi:type="dcterms:W3CDTF">2012-06-22T17:46:46Z</dcterms:modified>
  <cp:revision>1</cp:revision>
  <dc:subject/>
  <dc:title>幻灯片 1</dc:title>
</cp:coreProperties>
</file>