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C0DA-FAA1-4E3B-B657-18141538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AF26-FE8C-4C55-A095-EF8E42B8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3FF1-DBE4-43BE-9F00-96EE996E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E5DA-45B0-4C04-822A-57ED135F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3D30-FC6C-4268-B790-8558FEBC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DC7B-5C19-4AC2-912F-74B72458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4F9F-646D-4262-8D9D-0FFD2FA4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AD2D-6198-499D-A370-B09DD0E3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DD51-D7B6-4557-AC2F-88BD479B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C031-40EB-46BE-95EC-2B71014E5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9F59-6F77-43BF-A25C-D82DD201D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366B-967A-454A-B56E-168BABAA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1584E-F4D0-44F3-8BA6-D130B535A29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2T17:46:36Z</dcterms:created>
  <dc:creator>somebody</dc:creator>
  <dc:description/>
  <dc:language>en-US</dc:language>
  <cp:lastModifiedBy>somebody</cp:lastModifiedBy>
  <dcterms:modified xsi:type="dcterms:W3CDTF">2012-06-22T17:46:46Z</dcterms:modified>
  <cp:revision>1</cp:revision>
  <dc:subject/>
  <dc:title>幻灯片 1</dc:title>
</cp:coreProperties>
</file>