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13BF-8E2B-444C-9F1E-5784ACDE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84F7-18C4-44A3-899B-E57DC8E8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5523-D2E7-4F9D-AE58-D2BF63DB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32D2-01EA-4838-9877-BC6B42C7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E013-B6B6-469B-B469-207D73CE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B112-DE33-42AF-BA2C-2531F7CE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53FF-3927-4BAF-AF81-D673388C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2077-1D35-406B-BC5A-04B1A07B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DEDE-B713-41A9-981A-7E67A21A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0500-1801-4D4A-A229-F0FADF54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39AF-C621-4DFB-AA58-218694A5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B879-4850-4DD7-8C9A-38B8C843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4C38-8C82-40BB-BAD5-1FCE32F337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7:46:36Z</dcterms:created>
  <dc:creator>somebody</dc:creator>
  <dc:description/>
  <dc:language>en-US</dc:language>
  <cp:lastModifiedBy>somebody</cp:lastModifiedBy>
  <dcterms:modified xsi:type="dcterms:W3CDTF">2012-06-22T17:46:46Z</dcterms:modified>
  <cp:revision>1</cp:revision>
  <dc:subject/>
  <dc:title>幻灯片 1</dc:title>
</cp:coreProperties>
</file>